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1B06-099E-4BA8-8C3D-211D48EB3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1CA7-6C57-4ECA-961F-1F7810892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9FAA-4043-4562-ADA0-E87D44208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14EB-3556-4720-B39A-3F0E7850E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AC4C-2165-417A-AF1B-3BB453499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929B-2000-44C0-A89A-DFCC4CA0D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BB88-95E9-48BF-9720-35078A19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94B4-4168-4F54-A799-248E03B46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4D47-34FD-4B99-A8A2-5A4DD58FC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58E0-FAC5-47AE-944A-D33387C95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D0BC-82C7-4DD4-98EA-1EE758571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3D13-983F-40E0-84F1-F66311100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00" y="6453000"/>
            <a:ext cx="1090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C433-40E0-467E-9D5F-9E904F038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5157720"/>
            <a:ext cx="52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Harmonising HE in ASEAN –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Generating Trust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etween ASEAN States</a:t>
            </a:r>
            <a:endParaRPr b="1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5580000" y="61657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R. Kalaya Tingsabadh,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ssues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Harmonisation?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One Vision, One Identity, One Community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tudent mobility – 1 semester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Problems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The majority of our students prefer to go to the U.S., Europe, Japan, China, Korea, Australia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They are not interested in going to the other ASEAN countries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Language proficiency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ssues (contd.)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Scholarships (AIMS, AUN – 5 per university)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Very successful ASEAN camps: 2 weeks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Need better information on courses </a:t>
            </a:r>
            <a:br>
              <a:rPr sz="2800"/>
            </a:br>
            <a:r>
              <a:rPr b="1" lang="en-US" sz="2800" spc="-1" strike="noStrike" u="sng">
                <a:solidFill>
                  <a:srgbClr val="292929"/>
                </a:solidFill>
                <a:uFillTx/>
                <a:latin typeface="Comic Sans MS"/>
              </a:rPr>
              <a:t>actually</a:t>
            </a: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 offered to exchange students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Quality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Need more time for exchange arrangement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09:27Z</dcterms:created>
  <dc:creator>iLLuSioN</dc:creator>
  <dc:description/>
  <dc:language>en-US</dc:language>
  <cp:lastModifiedBy>ying</cp:lastModifiedBy>
  <dcterms:modified xsi:type="dcterms:W3CDTF">2016-07-20T04:32:22Z</dcterms:modified>
  <cp:revision>12</cp:revision>
  <dc:subject/>
  <dc:title>ภาพนิ่ง 1</dc:title>
</cp:coreProperties>
</file>