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E5842-DF83-4B60-9D24-A4C72C5335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21844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352760"/>
            <a:ext cx="821844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CE742-3D6F-44D5-83D4-D809C7F71B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40104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2133720"/>
            <a:ext cx="40104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352760"/>
            <a:ext cx="40104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120" y="4352760"/>
            <a:ext cx="40104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23849-E9C9-4341-9985-C9E81EA28C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26460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5680" y="2133720"/>
            <a:ext cx="26460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4160" y="2133720"/>
            <a:ext cx="26460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352760"/>
            <a:ext cx="26460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5680" y="4352760"/>
            <a:ext cx="26460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4160" y="4352760"/>
            <a:ext cx="26460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4C397-DCD7-4EE1-985C-E473095ABF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2133720"/>
            <a:ext cx="821844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C6BF0-4CCA-4B00-A52B-FAD90D3772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218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220C8-1816-4933-B786-FBE15F0745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40104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120" y="2133720"/>
            <a:ext cx="40104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26074-9C51-49DA-A314-2A44C21088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CA494-8415-4BA9-86DF-D82A1F4C20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5D97C-0DF3-4602-BDC2-B28018DDAF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40104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2133720"/>
            <a:ext cx="40104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352760"/>
            <a:ext cx="40104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6B8F7-BB07-4FD3-AEA0-2A96B9EF84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40104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133720"/>
            <a:ext cx="40104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120" y="4352760"/>
            <a:ext cx="40104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38A46-7A56-43ED-884D-FDCABC401E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40104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120" y="2133720"/>
            <a:ext cx="40104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352760"/>
            <a:ext cx="821844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4E748-EDE6-4115-B5D2-5A2FCE73CB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133720"/>
            <a:ext cx="8218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  <a:p>
            <a:pPr lvl="1" marL="743040" indent="-285840" algn="ctr">
              <a:spcBef>
                <a:spcPts val="799"/>
              </a:spcBef>
              <a:buClr>
                <a:srgbClr val="29292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  <a:p>
            <a:pPr lvl="2" marL="1143000" indent="-228600" algn="ctr">
              <a:spcBef>
                <a:spcPts val="799"/>
              </a:spcBef>
              <a:buClr>
                <a:srgbClr val="29292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  <a:p>
            <a:pPr lvl="3" marL="1600200" indent="-228600" algn="ctr">
              <a:spcBef>
                <a:spcPts val="799"/>
              </a:spcBef>
              <a:buClr>
                <a:srgbClr val="29292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  <a:p>
            <a:pPr lvl="4" marL="2057400" indent="-228600" algn="ctr">
              <a:spcBef>
                <a:spcPts val="799"/>
              </a:spcBef>
              <a:buClr>
                <a:srgbClr val="29292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  <a:p>
            <a:pPr lvl="5" marL="2057400" indent="-228600" algn="ctr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  <a:p>
            <a:pPr lvl="6" marL="2057400" indent="-228600" algn="ctr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596000" y="6453000"/>
            <a:ext cx="1090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7F78-AB95-457A-BE2F-5280B04E8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1280" y="5157720"/>
            <a:ext cx="52214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Harmonising HE in ASEAN –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Generating Trust 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between ASEAN States</a:t>
            </a:r>
            <a:endParaRPr b="1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5580000" y="6165720"/>
            <a:ext cx="33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.R. Kalaya Tingsabadh,Ph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Issues</a:t>
            </a:r>
            <a:endParaRPr b="1" lang="en-US" sz="4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713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Harmonisation?</a:t>
            </a: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Comic Sans MS"/>
              </a:rPr>
              <a:t>One Vision, One Identity, One Community</a:t>
            </a: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Student mobility – 1 semester</a:t>
            </a: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Comic Sans MS"/>
              </a:rPr>
              <a:t>Problems</a:t>
            </a: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  <a:p>
            <a:pPr lvl="2" marL="1143000" indent="-228600" algn="ctr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Comic Sans MS"/>
              </a:rPr>
              <a:t>The majority of our students prefer to go to the U.S., Europe, Japan, China, Korea, Australia</a:t>
            </a: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  <a:p>
            <a:pPr lvl="2" marL="1143000" indent="-228600" algn="ctr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Comic Sans MS"/>
              </a:rPr>
              <a:t>They are not interested in going to the other ASEAN countries</a:t>
            </a: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  <a:p>
            <a:pPr lvl="2" marL="1143000" indent="-228600" algn="ctr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Comic Sans MS"/>
              </a:rPr>
              <a:t>Language proficiency</a:t>
            </a: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  <a:p>
            <a:pPr lvl="2" marL="1143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Issues (contd.)</a:t>
            </a:r>
            <a:endParaRPr b="1" lang="en-US" sz="4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86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Solution</a:t>
            </a: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29292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Comic Sans MS"/>
              </a:rPr>
              <a:t>Scholarships (AIMS, AUN – 5 per university)</a:t>
            </a: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  <a:p>
            <a:pPr lvl="1" marL="743040" indent="-285840" algn="ctr">
              <a:spcBef>
                <a:spcPts val="700"/>
              </a:spcBef>
              <a:buClr>
                <a:srgbClr val="29292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Comic Sans MS"/>
              </a:rPr>
              <a:t>Very successful ASEAN camps: 2 weeks </a:t>
            </a: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29292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Comic Sans MS"/>
              </a:rPr>
              <a:t>Need better information on courses </a:t>
            </a:r>
            <a:br>
              <a:rPr sz="2800"/>
            </a:br>
            <a:r>
              <a:rPr b="1" lang="en-US" sz="2800" spc="-1" strike="noStrike" u="sng">
                <a:solidFill>
                  <a:srgbClr val="292929"/>
                </a:solidFill>
                <a:uFillTx/>
                <a:latin typeface="Comic Sans MS"/>
              </a:rPr>
              <a:t>actually</a:t>
            </a:r>
            <a:r>
              <a:rPr b="1" lang="en-US" sz="2800" spc="-1" strike="noStrike">
                <a:solidFill>
                  <a:srgbClr val="292929"/>
                </a:solidFill>
                <a:latin typeface="Comic Sans MS"/>
              </a:rPr>
              <a:t> offered to exchange students </a:t>
            </a: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29292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Comic Sans MS"/>
              </a:rPr>
              <a:t>Quality </a:t>
            </a: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29292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Comic Sans MS"/>
              </a:rPr>
              <a:t>Need more time for exchange arrangement</a:t>
            </a: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9:09:27Z</dcterms:created>
  <dc:creator>iLLuSioN</dc:creator>
  <dc:description/>
  <dc:language>en-US</dc:language>
  <cp:lastModifiedBy>ying</cp:lastModifiedBy>
  <dcterms:modified xsi:type="dcterms:W3CDTF">2016-07-20T04:32:22Z</dcterms:modified>
  <cp:revision>12</cp:revision>
  <dc:subject/>
  <dc:title>ภาพนิ่ง 1</dc:title>
</cp:coreProperties>
</file>